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DD4-E9FD-44C8-9C7A-2059C5FB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218-FB56-470D-B8FB-38383F7C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19B-78F7-4BF1-9C07-7C28A1E3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064-DA14-4FA2-BC00-D72F4DB3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4C9-38C5-4FEE-B1F5-F5BB732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37A-69DD-46A6-98DC-98C7AD28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FDB-FF75-4E29-9F0F-CA67F621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C5D-9D06-49FC-9E61-69E045F2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6EC-4DF6-4618-9D47-16BD032E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D63-84EF-4646-AEC4-CB3829D3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E8B-DC4E-4691-9A9E-4BD7AC46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1CF-8153-41ED-848B-2759ED30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3451-F402-4DFA-AA72-3451EBDBBEF9}" type="slidenum"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371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The American Dream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F03-068F-4494-AD09-461890262F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Assumption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6600" y="1941480"/>
            <a:ext cx="8472600" cy="1274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87320" y="3975120"/>
            <a:ext cx="7570800" cy="111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435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USCIS is funded by green card applicants only (true!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USCIS processes all applications received whether the quota has been reached or not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If the quota is reached, applications are set aside until the new fiscal year starts and quotas are set back to 0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368960"/>
            <a:ext cx="112680" cy="672840"/>
          </a:xfrm>
          <a:custGeom>
            <a:avLst/>
            <a:gdLst>
              <a:gd name="textAreaLeft" fmla="*/ 0 w 112680"/>
              <a:gd name="textAreaRight" fmla="*/ 40680 w 112680"/>
              <a:gd name="textAreaTop" fmla="*/ 17280 h 672840"/>
              <a:gd name="textAreaBottom" fmla="*/ 65556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4521240"/>
            <a:ext cx="22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From USCIS and D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C52-E114-457D-9181-A3A733E857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ur Optimization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ecision Variables and Objective Function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8640" y="1450800"/>
            <a:ext cx="8226720" cy="2552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52560" y="5346720"/>
            <a:ext cx="7213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umber of requests at each stage reflects gate proces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Optimize for number of employees and processed application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55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ssumes USCIS can hire contractors for each given month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8640" y="4040280"/>
            <a:ext cx="8226720" cy="12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789-A75C-428D-B9E5-16464241B6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ur Optimization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onstraints (1/2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ree sets of constraint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umber of work hours available ≥ Number of work needed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umber of applications requested ≤ Number of applications processed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o backlog of applications at either one of the 4 stages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8640" y="2249640"/>
            <a:ext cx="8226720" cy="235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D7D-F586-433B-8F4E-5D7CC95BDA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ur Optimization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onstraints (2/2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ree sets of constraint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umber of work hours available ≥ Number of work needed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umber of applications requested ≤ Number of applications processed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o backlog of applications at either one of the 4 stages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8640" y="1674720"/>
            <a:ext cx="8226720" cy="33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CE7C-AAC1-49EE-9BA6-FDCA6DA1A5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backlog can be eliminated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optimum requires up to 10,000 workers in some agencies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mpact on cost and profit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8640" y="1809720"/>
            <a:ext cx="8226720" cy="16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B87-204D-4C94-8CDD-248A5A6C42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130360"/>
            <a:ext cx="82296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optimum allocation of workers and applications sets the annual cost to $290,333,331 up from $91,500,000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ut it increases operating profit from 66% currently to 75%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8640" y="1855800"/>
            <a:ext cx="8226720" cy="1289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8640" y="3417840"/>
            <a:ext cx="822672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EFC-FD24-470E-8E44-4D168951DF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Mission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mprove the duration and variability of the employer-sponsored green card proces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-533520">
              <a:spcBef>
                <a:spcPts val="700"/>
              </a:spcBef>
              <a:buClr>
                <a:srgbClr val="c0c0c0"/>
              </a:buClr>
              <a:buFont typeface="Monotype Corsi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Monotype Corsiva"/>
              </a:rPr>
              <a:t>Optimize allocation of resources at involved U.S. agencies to eliminate the green card backlog while minimizing cost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ssess the impact of Charlotte IT Consulting Group’s proposals to improve the process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29120" y="4789440"/>
            <a:ext cx="2884320" cy="15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18E-8006-482A-B229-D953AAE8A8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harlotte IT Consulting Group Solutions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mplement a system that cuts processing times by 2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ow much money will the agencies save with each program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mplement a system that reduces security clearance variability significantly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ow will it affect the backlog of green card applications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820-9791-4A01-8B97-F5651D23BB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Processing Times by 50%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5041440"/>
            <a:ext cx="82296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reduction of processing time doubles the number of applications processed every month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4800" y="3429000"/>
            <a:ext cx="8472600" cy="1274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4800" y="1698480"/>
            <a:ext cx="8472600" cy="1274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15000" y="1430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2560" y="3151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86D-3BC0-43C3-A24F-0FF4B528B5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Processing Times by 50%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70800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new IT system increases USCIS operating profit by over 50% through labor cost reductio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85880" y="1812960"/>
            <a:ext cx="5770440" cy="130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E46-0CF6-44B5-890C-4AB25C0373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his is the story of 4 foreign Sternie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ebraj Ghosh (India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llon Harris (Israel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mir Kaspi (Israel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harlotte Porteneuve (France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Who worked really hard toward the American Dream: They got into Stern and now have received job offers from prestigious firms but are unsure they can legally work in the glorious country of U.S. of A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8CE-E8EB-4CDF-95C7-2CC64ECAFD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Security Clearance Variability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1960" y="4559040"/>
            <a:ext cx="8521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variability in security clearance processing generates a backlog of green card application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09600" y="1741320"/>
            <a:ext cx="6724800" cy="24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B57-A47C-4B79-8EE8-338BD56D5C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Security Clearance Variability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1960" y="4559040"/>
            <a:ext cx="8521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BI’s processing of security clearance: distribution due to each person’s unique security background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kewed distribution of clearances with a peak at 13,000/month and a scale of 1,00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Charlotte IT Consulting Firm can reduce this scale down to 700, i.e. reduce the variability of processing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6000" y="1544760"/>
            <a:ext cx="4113000" cy="2759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1544760"/>
            <a:ext cx="4113000" cy="27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67C-7FDD-4D00-A86E-DD17E21F14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Security Clearance Variability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1040" y="4635000"/>
            <a:ext cx="8521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Effect of system improvement on green card backlog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ithout system: 33% probability of backlog &gt; 30,000 application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ith system: 10% probability of backlog &gt; 30,000 application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acklog of over 30,000 results in costly class-action lawsuits for USCIS!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1200" y="1562040"/>
            <a:ext cx="4113360" cy="2932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4760" y="1562040"/>
            <a:ext cx="411300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A34-5F60-4396-A0DF-9AFFB1D1F8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8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Four Foreign Sternies can improve the green card processing efficiency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y reallocating resources to eliminate 2007’s backlog in green card demand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y hiring the services of Charlotte IT Consulting Group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crease the USCIS profit by over 50%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ecrease the likelihood of costly backlog of over 30,000 applications by over 50%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y following our advice the immigration services will be successful!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84320" cy="1598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59680" y="0"/>
            <a:ext cx="2884320" cy="15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A6E-C73F-4AA0-AB21-E77970C492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What are their options?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H1-B work visa, but…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upply cut dramatically after 9/11, does not meet demand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Only valid for 6 years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llegal immigratio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ust kidd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egal immigration = the GREEN CARD!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1.3 Million new legal immigrants in 2006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B1C-3BDA-49BC-9F6D-88934C1BAF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12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056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0" y="685800"/>
            <a:ext cx="4570560" cy="3124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5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me Facts about U.S. Immigration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"/>
          <p:cNvSpPr/>
          <p:nvPr/>
        </p:nvSpPr>
        <p:spPr>
          <a:xfrm>
            <a:off x="3898800" y="650232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ata from U.S. Citizenship and Immigration Services (USC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75C-E4AF-4019-BBB8-D1537AD6DC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Problems with Employer-Sponsored Green Card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Uncertain duration: from 6 months to 10 years…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nterim status locks immigration candidate into one job position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ultiple agencies involved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Large and growing backlog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e USCIS received over 2.5 million applications during July and August, including 300,000 employment-based adjustment applications. "It could take years to process all of the applications and issue all the visas," Michael Aytes, USCIS's Associate Director for Domestic Operations, told reporters.” – November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88A-6B9E-43C6-B2ED-272A6EF7F2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007: Explosive Demand for Green Cards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92280" y="1469880"/>
            <a:ext cx="77594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B93-C023-440F-A06F-FDF0474F8E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Luckily, Our Fellow Sternies Have Taken Juran’s Decision Models!!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198-4A64-49E3-8E2B-0F97474420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Mission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mprove the duration and variability of the employer-sponsored green card proces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Optimize allocation of resources at involved U.S. agencies to eliminate the green card backlog while minimizing cost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ssess the impact of Charlotte IT Consulting Group’s proposals to improve the process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29120" y="4789440"/>
            <a:ext cx="2884320" cy="15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0D8-70B7-4981-A236-CDE783259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he Green Card Process, in Theory…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040" y="4680000"/>
            <a:ext cx="7781760" cy="105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1680" y="2943360"/>
            <a:ext cx="8380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3067200"/>
            <a:ext cx="8380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68760" y="317196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4" idx="6"/>
            <a:endCxn id="66" idx="1"/>
          </p:cNvCxnSpPr>
          <p:nvPr/>
        </p:nvCxnSpPr>
        <p:spPr>
          <a:xfrm>
            <a:off x="3149640" y="3362040"/>
            <a:ext cx="17913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1866960" y="2967120"/>
            <a:ext cx="495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40280" y="3287880"/>
            <a:ext cx="8380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0720" y="2443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2"/>
          </p:cNvCxnSpPr>
          <p:nvPr/>
        </p:nvCxnSpPr>
        <p:spPr>
          <a:xfrm flipV="1">
            <a:off x="4572000" y="2633400"/>
            <a:ext cx="55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987720" y="2239920"/>
            <a:ext cx="5842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8" idx="6"/>
            <a:endCxn id="72" idx="1"/>
          </p:cNvCxnSpPr>
          <p:nvPr/>
        </p:nvCxnSpPr>
        <p:spPr>
          <a:xfrm>
            <a:off x="5511600" y="2633760"/>
            <a:ext cx="705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6216480" y="2239920"/>
            <a:ext cx="4701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72" idx="3"/>
            <a:endCxn id="63" idx="2"/>
          </p:cNvCxnSpPr>
          <p:nvPr/>
        </p:nvCxnSpPr>
        <p:spPr>
          <a:xfrm>
            <a:off x="6686640" y="2635200"/>
            <a:ext cx="705240" cy="8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2" idx="6"/>
            <a:endCxn id="67" idx="1"/>
          </p:cNvCxnSpPr>
          <p:nvPr/>
        </p:nvCxnSpPr>
        <p:spPr>
          <a:xfrm>
            <a:off x="1409760" y="3362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7" idx="3"/>
            <a:endCxn id="64" idx="2"/>
          </p:cNvCxnSpPr>
          <p:nvPr/>
        </p:nvCxnSpPr>
        <p:spPr>
          <a:xfrm>
            <a:off x="2361960" y="3362040"/>
            <a:ext cx="40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6" idx="3"/>
            <a:endCxn id="63" idx="2"/>
          </p:cNvCxnSpPr>
          <p:nvPr/>
        </p:nvCxnSpPr>
        <p:spPr>
          <a:xfrm flipV="1">
            <a:off x="5778000" y="3485520"/>
            <a:ext cx="161388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70" idx="1"/>
          </p:cNvCxnSpPr>
          <p:nvPr/>
        </p:nvCxnSpPr>
        <p:spPr>
          <a:xfrm flipV="1">
            <a:off x="3149640" y="2635200"/>
            <a:ext cx="8388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F9C-1687-4943-827B-CED6F6DA6B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4:36:01Z</dcterms:created>
  <dc:creator>Charlotte Porteneuve</dc:creator>
  <dc:description/>
  <dc:language>en-US</dc:language>
  <cp:lastModifiedBy>Charlotte Porteneuve</cp:lastModifiedBy>
  <dcterms:modified xsi:type="dcterms:W3CDTF">2007-11-26T18:30:37Z</dcterms:modified>
  <cp:revision>115</cp:revision>
  <dc:subject/>
  <dc:title>The American Dream</dc:title>
</cp:coreProperties>
</file>